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D071-063B-4DC0-B27F-14624F42A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1F28-2FAA-4927-B279-3E28BB1C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1F7E-6214-49F5-BE16-EEC308EE7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9AE9-8F71-4AD5-BF17-969DE0095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52E5-7666-449E-A635-3FFFA2E8F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C71F4-770D-40FF-AA4E-C06A97A9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F6B2-8B60-4B5E-94BA-BFF21CD9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ECEB-E00A-4866-ADAF-3580DA94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F83B-41D7-4833-B9CE-03BEDE1B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B656-6D8E-47DC-8527-1A82157D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F840-A0B9-49BD-B673-4762E316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0131-E9B7-4094-A692-2EC2E2CB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C7AD-9BA3-4874-826E-98026383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19F0-4E62-440D-A953-FC53569A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BD44-76F5-447C-B236-3BB83230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5E38-5F2A-4B14-907A-2FAFCAB30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1A95-2F21-4045-AFCF-004361E88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92A8-A420-4FDA-9445-13ABEA7A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8B1D-9DB6-4170-BBBC-2D695434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47CA-182B-4CFF-B1E4-6A1237F4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17E3-A482-4396-85D3-DFB0E293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A251-69E7-47F1-A624-7828D588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27C8-9F74-46E8-A67A-2FE26BB0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16ED-0655-44F7-8702-B19030D1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3C0606-095A-4F84-9834-E6189437CF5F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2DDD62-F5EB-4129-AF13-75571B8E6C82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B60BFC-7E18-4360-973E-E19ADC386A24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22BD99-F1B1-4B34-9312-2BFED6D95414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2"/>
          <a:stretch/>
        </p:blipFill>
        <p:spPr>
          <a:xfrm>
            <a:off x="414360" y="1365120"/>
            <a:ext cx="8242200" cy="20433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o decrease # of pro-Jeffersonians, a series of oppressive laws were passed that aimed at "aliens", or foreigners who came to America and supported Jefferson.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Raised the residence requirements from 5 years to 14 year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Stated that President could deport or jail foreigners in times of peace or hostilitie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The Sedition Act -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anyone who impeded the policies of the government or falsely defamed its officials would be liable to a heavy fine and imprisonment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Jefferson's Kentucky resolution and Madison's Virginia resolution concluded that the states had the right to refuse laws created by the government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ater used by southerners to support nullification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0" name="Picture 3" descr="virkenres"/>
          <p:cNvPicPr/>
          <p:nvPr/>
        </p:nvPicPr>
        <p:blipFill>
          <a:blip r:embed="rId3"/>
          <a:stretch/>
        </p:blipFill>
        <p:spPr>
          <a:xfrm>
            <a:off x="7101000" y="3828960"/>
            <a:ext cx="20430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itle 1" descr=""/>
          <p:cNvPicPr/>
          <p:nvPr/>
        </p:nvPicPr>
        <p:blipFill>
          <a:blip r:embed="rId2"/>
          <a:stretch/>
        </p:blipFill>
        <p:spPr>
          <a:xfrm>
            <a:off x="450720" y="231840"/>
            <a:ext cx="8242560" cy="1315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ederalist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upported strong central governmen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overnment should support private enterpris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upported British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mocratic-Republicans: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eak central governmen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tates’ rights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2"/>
          <a:stretch/>
        </p:blipFill>
        <p:spPr>
          <a:xfrm>
            <a:off x="450720" y="231840"/>
            <a:ext cx="8242560" cy="1315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1800" indent="-40680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Jeffersonian Democratic-Republicans= get into the French and British War; fight for Franc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Federalists were opposed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Neutrality Proclamation of 1793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tated US neutrality from Britain-France war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2797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acked by Hamilton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itizen Gene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 flipH="1">
            <a:off x="7707240" y="4863960"/>
            <a:ext cx="122256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ritish retained forts on US soil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Jeffersonians felt that America should fight Britain in defense of America's liberties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Federalists opposed b/c hopes for economic development depended on trade with Britai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attle of Fallen Timber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3"/>
          <a:stretch/>
        </p:blipFill>
        <p:spPr>
          <a:xfrm>
            <a:off x="5502240" y="4157640"/>
            <a:ext cx="364176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Jay’s Treaty- British evacuate posts on US soi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S pay debts owed to Britain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Pinckney’s Treaty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 Spain granted Americans free navigation of Mississippi Riv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3"/>
          <a:stretch/>
        </p:blipFill>
        <p:spPr>
          <a:xfrm>
            <a:off x="2435400" y="3630600"/>
            <a:ext cx="451944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eft office 1797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arned against permanent allianc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ajor accomplishments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3"/>
          <a:stretch/>
        </p:blipFill>
        <p:spPr>
          <a:xfrm>
            <a:off x="2031840" y="3429000"/>
            <a:ext cx="508032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is our true policy to steer clear of permanent alliances with any portion of the foreign world; so far, I mean, as we are now at liberty to do it; for let me not be understood as capable of patronizing infidelity to existing engagements. I hold the maxim no less applicable to public than to private affairs, that honesty is always the best policy. I repeat it, therefore, let those engagements be observed in their genuine sense. But, in my opinion, it is unnecessary and would be unwise to extend them.”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John Adams defeats Thomas Jefferson to become president in 1797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Jefferson becomes vice president as runner-up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3"/>
          <a:stretch/>
        </p:blipFill>
        <p:spPr>
          <a:xfrm>
            <a:off x="5892840" y="3340080"/>
            <a:ext cx="279396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rench angered by Jay’s Trea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XYZ Affai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sults: (preparing for war)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S creates Navy Departmen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xpanded nav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established Marine Corps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3"/>
          <a:stretch/>
        </p:blipFill>
        <p:spPr>
          <a:xfrm>
            <a:off x="5116680" y="3287880"/>
            <a:ext cx="3570120" cy="35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19840" indent="-39024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Napoleon Bonaparte- dictator of Franc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onvention of 1800- signed w/ John Jay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spcBef>
                <a:spcPts val="7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nnulled alliance between France and America that had existed since the Revolutionary War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spcBef>
                <a:spcPts val="7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alled for France to return captured American ships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spcBef>
                <a:spcPts val="7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U.S. was to pay damage claims of American shippers (caused by France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0T22:16:20Z</dcterms:created>
  <dc:creator>Emily Johnson</dc:creator>
  <dc:description/>
  <dc:language>en-US</dc:language>
  <cp:lastModifiedBy>emily.johnson</cp:lastModifiedBy>
  <dcterms:modified xsi:type="dcterms:W3CDTF">2012-10-11T15:13:49Z</dcterms:modified>
  <cp:revision>4</cp:revision>
  <dc:subject/>
  <dc:title>Ch.10 part 2: launching the new ship of state</dc:title>
</cp:coreProperties>
</file>